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5422E-7651-462F-BF8D-4DA47FE8B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F1BEC-0798-4C23-91D1-128E7443D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50536-82DD-47F3-992E-82C2C2CEB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EC22A-A1C8-4014-AFAD-3AC959C88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A6B67-77BA-4793-8E8F-3AA1AC481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B9E9B-C78F-4F82-ADD6-BE1B0E723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49B29-8DF4-4503-AA85-2BD6866B6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BAAC7-8DFA-4772-A3D6-910FE9FB4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FBE19-1F03-477B-81EE-900B5A6AB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0BECD-B36E-4626-97EE-B1807E39D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7BC02-C68E-44CE-9AC7-9541C1665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0ADAD-7E23-4601-A707-37114A330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2EFEF-A3CB-4770-8C7B-EC9AEA55A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7209D-70D3-4EF2-B46C-0F5025CF6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8BA20-5ADF-4F75-8B36-B67417262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78AFB-7173-487E-AC44-5457D0ABAD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D84F4-186D-4AD9-A783-19617586E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20171-A1A5-4ECE-A9CE-FA3C95A18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DFCF4-620E-4302-9BFD-960B16B93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8FD0C-0B30-46CC-9AA1-A824F1C17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08AE2-0584-4B5E-9687-BB79DFDC6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41803-6AC8-4212-9E50-22D0FC2A2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9CF9B-EA33-400D-9121-B86A4093D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9DE53-AE49-4663-BFB9-EE9127667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8C41-6CC7-4409-8591-104A2223855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4A72-7EC3-4F20-ABA2-A1892FD6427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6200" spc="-1" strike="noStrike">
                <a:solidFill>
                  <a:srgbClr val="ffffff"/>
                </a:solidFill>
                <a:latin typeface="Times New Roman"/>
              </a:rPr>
              <a:t>Emilia Pardo Bazán</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3000" spc="-1" strike="noStrike">
                <a:solidFill>
                  <a:srgbClr val="ffffff"/>
                </a:solidFill>
                <a:latin typeface="Arial"/>
              </a:rPr>
              <a:t>Española (1851-1921)</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El análisis</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Te parece apropiado el título del cuento?  ¿Por qué se les da tanta importancia a las medias rojas?  ¿Qué significan para los diferentes personajes del cuento?  ¿Cómo pueden ser algo positivo y a la vez negativo?  Menciona en tu respuesta al tío Clodio, Ildara y “el gancho”.</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El análisis</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Compara la aldea con los “lejanos países” de los sueños de Ildara.  ¿Con qué se asocian los distintos espacios en la imaginación de Ildara?</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Analiza el castigo que recibe Ildara al final del cuento.  ¿Qué significa para ella la pérdida de su belleza?  ¿Qué significa para su padre?  ¿Por qué había temido Ildara la violencia físic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El análisis</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Compara el lenguaje del narrador con el de Ildara y su padre.  ¿Cuál es el efecto de la selección de palabras?  ¿Qué nos indica sobre los personaj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Por qué usa Pardo Bazán tantos regionalismos y coloquialismos?  ¿Qué efecto logr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El análisis</a:t>
            </a:r>
            <a:endParaRPr b="0" lang="en-US" sz="44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Describe la realidad social que presenta la autora.  Menciona algunos aspectos importantes de este grupo social.</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Datos biográficos</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Nació en La Coruña, Galici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Era de una familia rica y aristocrática</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Solamente por medio de la posición económica y política de su familia se pudo educa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Se casó a los 16 años y tuvo 3 hijo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Viajaba mucho por toda Europa</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Mientras visitaba los lugares, se dedicaba a aprender el idioma y a estudiar su literatur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Datos biográficos</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Ya casada y con hijos se mudó a Madrid</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Se integró con los círculos literarios</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Por medio de su gran inteligencia, ganó el respeto y les influyó a muchos escritores</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Clarín, Galdós y Blasco Ibáñez</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Se hizo famosa al publicar un libro que criticaba el estilo de naturalismo que usaba el escritor francés Emile Zol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Datos biográficos</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Luchaba mucho por los derechos de la mujer</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Por una educación igual y por poder tener trabajos iguales que los homb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Por sus luchas, al fin llegó a oponerse el esposo entonces ella se separó de él</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Fue profesora de literatura francés en la Universidad de Madrid</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Murió a los 69 año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La narrativa</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Escribió cuentos, novelas, ensayos y un libro de poesí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Es difícil clasificar la autora como representante de un género literario y mucho menos de un estilo.  Sin embargo, tiene los marcos de realismo y de naturalism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Fue muy observadora y detallad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La narrativa</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Se opuso a la idea que le negaba al hombre el libre albedrí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Los personajes de su cuento, a pesar de ser limitados por su ambiente, parecen tener muchas libertad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Al estilo naturalista, representa escenas desagradables con una precisión exact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Temas</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La explotación social</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La violencia doméstic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La desigualdad económic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La situación de la muj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En el ambiente rural y en el urban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La violencia</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Sufrida por la mujer</a:t>
            </a:r>
            <a:endParaRPr b="0" lang="en-US" sz="26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El análisis</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Cómo presenta el narrador a Ildara con respecto a su belleza y a su estilo de vestir y peinarse? Compara su apariencia, aludiendo a los términos específicos que emplea el narrador, con la descripción que hace el tío Clodio de su esposa.</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El análisis</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Haz una lista de los trabajos que realiza Ildara en el cuento.  ¿Qué demuestran las labores sobre la situación socio-económica de la muchach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Interpreta la frase de tío Clodio: “Luego nacen los cuartos en el monte”.  ¿Cuál es la insinuación contenida en la imaginación de Ildar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4:41:04Z</dcterms:created>
  <dc:creator>Preferred Customer</dc:creator>
  <dc:description/>
  <dc:language>en-US</dc:language>
  <cp:lastModifiedBy>cfisd</cp:lastModifiedBy>
  <cp:lastPrinted>2002-09-23T18:09:57Z</cp:lastPrinted>
  <dcterms:modified xsi:type="dcterms:W3CDTF">2002-09-23T18:15:06Z</dcterms:modified>
  <cp:revision>3</cp:revision>
  <dc:subject/>
  <dc:title>Emilia Pardo Bazán</dc:title>
</cp:coreProperties>
</file>